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81C-ADB2-45B9-92F8-05B6B0EC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469-C5DF-4931-A7DD-9281ADAB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498-95F1-45C1-9DC0-B3306F8B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382-C169-4B27-9558-0FE8647A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078A-9809-4794-8126-BBC167C3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B125-E8BF-4E19-883F-C6B7BF07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8F9-57C0-4148-BE66-0C1F2466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B58E-8EFF-4168-B8B0-8E369935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B46-23F0-416A-8F08-3B6090D4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BF8-DB6D-439C-87C3-CADBB1C8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9BC-01C8-4495-8F91-846EF0BF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D23-B53E-4FE6-9797-BE506FCA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3E84-E69A-4A85-A10F-034DE4F05E5F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1</a:t>
            </a:r>
            <a:r>
              <a:rPr b="1" lang="sr-R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Укрштена алергиј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071800"/>
            <a:ext cx="86439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екови сличне хемијске грађе могу изазвати исту алергијску реакцију иако је само један од њих претходно дошао у контакт са организм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бог сличне хемијске грађе имуни систем их препознаје као исту супстанцу, исти антиген, и због тога долази до алергијске реакциј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Укрштена алергиј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1928880"/>
            <a:ext cx="8143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познатији пример за укрштену алергију јесу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пеницили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цефалоспори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соба која је алергична на пеницилин може алергијски реаговати и на цефалоспорине (око 8-15% пацијената), иако претходно никада није примала ту врсту антибиотика. Наиме, пеницилини и цефалоспорини имају један идентичан део молекула -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бета-лактамски прсте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- због кога их имуни систем препознаје као исту врсту антиг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тихистаминици 1. генера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14200" y="1928880"/>
            <a:ext cx="89298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се углавном користе због свог анти-алергијског деј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тоје две генерације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екови из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прве генерације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ерив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етанолам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дифенхидрамин, дименхидринат)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ерив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етилендиам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пириламин, трипеленамин),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лкиламин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хлорфенирамин, циклизин, меклизин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идроксизин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фенотиазин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прометазин, ципрохептад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тихистаминици 1. генера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1859040"/>
            <a:ext cx="800100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ви лекови су липофилни, па се добро апсорбују, продиру у ЦНС и метаболишу у јетри хидроксилациј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таболити се излучују у урину, тако да време полу-елиминације обично износи 4-6 час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прве генерације блокирају вазодилатацију коју изазива хистамин, смањују пропустљивост капилара и осећај свраба (смањују стимулацију нервних завршета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1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71680" y="2000160"/>
            <a:ext cx="8215200" cy="37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бог проласка у ЦНС, изазивају седац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ноги од антихистаминика прве генерације имају антимускаринско дејство; фенотиазини блокирају још алфа адренергичке рецепторе, а ципрохептадин блокира и рецепторе за серотон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јважнија нежељена дејства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ка прве генерације су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mic Sans MS"/>
              </a:rPr>
              <a:t>седациј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mic Sans MS"/>
              </a:rPr>
              <a:t>антимускаринск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ефекти (сува уста, опстипација, ретенција урина, парализа акомодациј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1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85840" y="1785960"/>
            <a:ext cx="864396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случају тровања (узимања доза антихистаминика вишеструко већих од препоручених) јављају се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симптоми слични тровању атропино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у почетку ексцитација, халуцинације, сува уста, мидријаза, црвенило лица, ретенција урина, тахикардија, а касније конвулзије и ко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прве генерације ублажавају симптоме алергијских реакција (алергијски ринитис, уртикарија, анафилактичке реакције), могу спречити појаву кинетозе, повољно делују симптоматски код Мениеровог синдрома (вртоглавица због пораста притиска ендолимфе у полукружним каналићима) и могу се користити као хипноти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85840" y="1714680"/>
            <a:ext cx="88581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руге генерациј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у хидросолубилни лекови, дерив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пиперид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који слабо продиру у ЦНС и изазивају врло слабу седац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ратадин, деслоратадин, цетиризин и фексофенадин се релативно споро елиминишу, тако да им дејство траје и до 24 часа. Лоратадин и деслоратадин се метаболишу у јетри на цитохрому ЦИП3А4, док се цетиризин и фексофенадин не метаболишу, већ неизмењени излучују у урину (цетиризин) и фецесу (фексофенад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1996920"/>
            <a:ext cx="82152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ви лекови блокирају вазодилатацију коју изазива хистамин, смањују пропустљивост капилара и осећај свраба (смањују стимулацију нервних завршета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ред тога, антихистаминици друге генерације инхибирају ослобађање великог броја инфламаторних медијатора, механизмом који не укључује блокаду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рецеп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57120" y="2643120"/>
            <a:ext cx="87868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ато се они осим за лечење алергијских манифестација (алергијски ринитис, уртикарија, анафилактичке реакције), користе и као додатни лекови за</a:t>
            </a:r>
            <a:r>
              <a:rPr b="0" i="1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c00000"/>
                </a:solidFill>
                <a:latin typeface="Comic Sans MS"/>
              </a:rPr>
              <a:t>бронхијалну астму</a:t>
            </a:r>
            <a:r>
              <a:rPr b="0" i="1" lang="sr-C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посебно ако је праћена ринитисом, уртикаријом или дерматитис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42960" y="1785960"/>
            <a:ext cx="80722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 групи Х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антихистаминика друге генерације су се некада налазил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терфенад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астемизо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; међутим, ова два лека су блокирала канале за јоне калијума (К+) у миокарду, продужавал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T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нтервал у ЕКГ-у и изазивала потенцијално фаталну коморску тахикардију,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torsades de pointes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о је било посебно изражено код особа које су узимале и друге лекове, инхибиторе цитохрома ЦИП3А4, због чега је долазило до скока концентрације терфенадина или астемизола у плаз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анас су терфенадин и астемизол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забрање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за употребу у многим земљ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714240" y="2274840"/>
            <a:ext cx="807264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сим за већ наведене индикације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се користе и за лечење тежих облика повраћања у 1. триместру трудноће (хyперемесис гравидарум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снова за овакву примену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блокатора је постојање функционалних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рецептора у центру за повраћањ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357120" y="2089080"/>
            <a:ext cx="83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ви лек који треба применити када наступи анафилактичка реакција ј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дренал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0.3 – 0.5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нтрамускулар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0.3 – 0.5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зблажења 1:1000)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упкутану примену треба избегавати, јер је апсорпција лека са места примене непредвидљива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травенску примену треба резервисати само за тежак анафилактички шок, јер је такав пут примене скопчан са високим ризиком од настанка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ритм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Ако се адреналин примењује интравенски, мора с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етходно разблажит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односу 1: 10.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28760" y="2274840"/>
            <a:ext cx="842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за адреналина код деце је 0.01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до максимално 0.3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зе адреналина и код одраслих, и код деце, се могу понављати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а сваких 10 минут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све док се знаци и симптоми анафилаксе не повуку, или не дође до појаве нежељених дејстава лека (палпитације, тремор, страх)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Лечење анафилакс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14200" y="1918800"/>
            <a:ext cx="8929800" cy="39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акође, треба обезбедити пролазност дисајних путева код болесника, и применити кисео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 адреналина, болеснику треба дати блокаторе хистаминских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ецептора, дифенхидрамин 50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ранитидин 50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интравенски. Комбинација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антихистаминика је делотворнија од примене само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антихистами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болесник има бронхоспазам, корисно је применити салбутамол (агонист бета-два рецептора)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у виду инхал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Лечење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афилакс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57120" y="228600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вим болесницима са анафилаксом треба дати и кортикостероиде (нпр. метилпреднизолон, 125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интравенски, или 50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реднизона орално). Они могу да спрече настанак друге фазе анафилактичке реак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у болесници екстремно хипотензивни, треба им дати интравенски 500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физиолошког раствор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Лечење анафилакс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57120" y="1452600"/>
            <a:ext cx="8429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болесник са анафилактичком реакцијом на хроничној терапији са бета-блокаторима или инхибиторима ангиотензин-конвертујућег ензима, неће добро реаговати на адреналин. Тада треба применити глукагон, који не делује преко бета-рецептора, а има хронотропно, инотропно и вазоактивно дејство, и изазива ослобађање катехоламина из нервних завршет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да дође до побољшања стања болесника, терапију са антихистаминицима и кортикостероидима наставити још четири дана. По потпуном смиривању анафилаксе, неопходно је утврдити на који антиген је болесник алергичан како би могао у будућности да га се клони. То се може учинити алергијским кожним пробама и утврђивањем прису­ства специфичних ИгЕ антит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Брза десензибилизациј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од особа алегичних на неки лек по првом типу алергије, у случају виталне угрожености и непостојања адекватне замене, тај лек се може применити поступком брзе десензибилизациј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ремедикација са Н1 и Н2 антихистаминик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Направе се 4 разблажења лека, свако следеће 10 пута више разблажено од претходно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Брза десензибилизациј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роз 16 корака примењује се лек од највећег до најмањег разблажења, по посебном протокол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ут примене је интравенски, али може и орално и на други начи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Дужина примене сваке дозе је око 15 мину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осле десензибилизације лек се може нормално дозирати уколико се континуирано примењује, тј. сваког да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РАСТВОРИ ЛЕКОВА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(Solutiones medicinal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357120" y="2444040"/>
            <a:ext cx="842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лекова су бистри течни препарати који садрже главни лек растворен у одговарајућем растварачу. Растварачи могу бити: вода, етанол, глицерол, уља (биљна или минерална). Вода која се користи за израду раствора мора бити дестилована или деминерализована (аqуа пурифицата).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уљаних растварача највише се користи маслиново уљ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твори се издају у боцама од стакла или пластике (витрум). Раствори лекова могу бити намењени за спољашњу или унутрашњу приме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Алергијске реакције на леков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500040" y="1714680"/>
            <a:ext cx="83581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Сваки лек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же изазвати алергијску реакцију код болесника, па чак и они који се користе за лечење алергија. Наравно, неки лекови то чине чешће (нпр. пеницилин), а неки веома ретко (нпр. лидока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ек који изазове алергију се заправо понаша као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нтиге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и то сам по себи или тек у вези са неким састојком организма (најчешће протеинске природе)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ле првог контакта са леком имунолошки систем организма ствара слободна антитела на лек или клонове Т-лимфоцита који могу да (преко специфичних антитела на својој мембрани) препознају л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Раствори лекова за унутрашњу (оралну) употребу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500040" y="200016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ови се прописују у облику раствора за унутрашњу примену само ако примена у облику таблете или капсуле није могућа. То се дешава  када је лек намењен деци млађој од 8 година (код њих се таблете или капсуле не могу примењивати због великог ризика од аспирације), када је лек на собној температури у течном агрегатном стању или када је лек сувише хигроскоп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вори се увек морају свеже припремити за употребу јер се брзо кваре (зато се прописује количина која је довољна само за 3-5 дана). Апотекар болеснику издаје целу количину раствора у стакленој боци, а болесник сам одмерава појединачну до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одмеравање се корист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ел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шика (кашичица)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Узима се да велика кашика захвата 15 мл течности, а мала кашика 5 мл. Зато лекар када прописује раствор лека за унутрашњу примену мора у ординацији да подеси однос главног лека и растварача тако да појединачна доза лека буде садржана у 5 или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15 м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Прописивање раствора за унутрашњу употреб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214200" y="2088000"/>
            <a:ext cx="8715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о како изгледа магистрално прописан рецепт за раствор ефикасног експекторанса калијум-јод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lii iodidi                                   3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e purificatae            ad       5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e fiat solu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ad vitrum nigr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пута дневно размитити једну кафену кашичицу раствора у чаши воде и попи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 једна кафена кашичица захвата 5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, у њој ће бити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 g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јум-јодида, што представља средњу појединачну дозу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 ad =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Da ad vitrum nigrum =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дај у тамној боци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зато што је калијум-јодид осетљив на светлост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Раствори за спољашњу употреб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642960" y="2428920"/>
            <a:ext cx="77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Раствори за спољашњу употребу се користе за дезинфекцију коже, за испирање шупљина (ране, усна дупља, вагина, мокраћна бешика) и за припремање облога. Издају се у стакленим боцама, обично у већој концентрацији од оне у којој треба да се примене. Зато лекар у сигнатури иза речи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Споља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мора да напише упутство болеснику како да разблажи раствор пре примене. Као погодне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мере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користе се велика кашика (15 мл) или чаша која захвата између 150 и 200 мл. Ако раствор за спољашњу примену садржи супстанце врло јаког дејства, он мора бити обојен јарко-плавом бој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Прописивање раствора за спољашњу употреб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642960" y="2086920"/>
            <a:ext cx="79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од готових дезинфицијентних раствора је раствор поливинилпиролидон јодида, који се користи за чишћење оперативног поља и дезинфекцију руку хирур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idon jod 10%   solutio      50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oclusionem praeformatam 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(una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ља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0 ml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твора размутити у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00 ml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рилне дестиловане воде. Са тако разблаженим раствором се може дезинфиковати кожа ру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Алергијске реакције на леков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357120" y="2357280"/>
            <a:ext cx="8786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 зависности од места (врсте ћелија, ткива) за које је лек везан и од доминантног начина реакције имунолошког система (стварањем слободних антитела или Т-лимфоцита) приликом следећег контакта са леком организам може реаговати алергијски на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4 различита начин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четири типа алергијске реак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1. тип (анафилактичка реакција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85840" y="1409760"/>
            <a:ext cx="857232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д овог типа реакције организам после првог контакта са леком ствара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ИгЕ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антитела на лек која се везују својим Фц делом за мембрану мастоци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да лек следећи пут доспе у организам (најраније после 5-7 дана од првог контакта), везује се за ИгЕ антитела на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мастоцитима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и проузрокује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дегранулацију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ових ћелија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з гранула мастоцита се ослобађа низ медијатора (хистамин, хемотактички фактори, хепарин, арилсулфатаза Б, итд.), који изазивају вазодилатацију, хипотензију и едем (услед повећане пропустљивости капилар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линички се то може манифестовати шоком (тзв.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анафилактички шок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) или отоком меких ткива врата и душника који проузрокује гушење болесника (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Квинкеов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едем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). Блаже реакције се манифестују само оспом -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уртиком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(копривњач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1. тип (анафилактичка реакција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57120" y="2000160"/>
            <a:ext cx="850104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нафилактичка реакција се лечи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престанко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примене лек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ји ју је изазвао а затим моменталном применом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адренал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.5 мг супкутано или 0.3 мг интрамускуларно или 0.2 мг интравенс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што је адреналин већ примењен, болеснику треба дати ињекцију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кортикостероид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 антихистамини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ко се анафилактичка реакција манифестује само копривњачом, тада је довољно применити само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2. тип (директна цитотоксичност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00040" y="2214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д 2. типа реакције после првог уношења лека у организам имуни систем ствара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Иг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л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Иг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антитела на л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ада се лек поново унесе у организам, он с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веже за мембрану неке врсте ћелија крв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 Антитела се затим везују за лек и активирају комплемент који разара мембрану крвне ћелије. Резултат ј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лиза ћел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тј. хемолитичка анемија, леукопенија или тромбоцитопенија, зависно од врсте ћелија за које је лек вез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3. тип (стварање имуних комплекса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57120" y="235728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код овог типа реакције организам ствара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ИгГ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ИгМ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тела, али се лек не везује за мембрану ћел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пре код поновљеног уношења лека дође до везивања лека и антитела (тј. настају такозвани имуни комплекси), а затим с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омплекси антиген-антител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аложе у ткивима и зидовима крвних суд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ви комплекси у ткивима изазивају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активацију инфламаторних ћели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лимфоцита, полиморфонуклеара, макрофага) и настанак запа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4. тип (касна преосетљивост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5840" y="19288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асна преосетљивост је везана за стварањ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лонова Т-лимфоцит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ји препознају лек као антиг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што је за имуну реакцију Т-лимфоцита потребно извесно време, реакција на поновно уношење антигена настаје тек после латентног периода од 48-72 часа. Отуда и назив касна преосетљиво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онтактни дерматитис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ји може настати после локалне примене лекова заснован је на механизму касне преосетљивости. Истим механизмом настају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алергијски хепатитис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нефритис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после примене ле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5-08-02T11:33:52Z</dcterms:modified>
  <cp:revision>197</cp:revision>
  <dc:subject/>
  <dc:title>Slide 1</dc:title>
</cp:coreProperties>
</file>